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63B6-97CE-4A14-8D85-E0BBD91AA3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D41-D96D-4BE2-8ACE-E236EE4859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   垂线和平行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垂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44936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垂直概念巧辨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区分图形中的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条直线相交，它们就互相垂直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条直线互相垂直时，相交成的四个角都是直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垂线。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三角板的两条直角边都是垂线。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线就是直角，直角也就是垂线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7359480" y="2349360"/>
            <a:ext cx="7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7446960" y="342900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7396200" y="395928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7396200" y="450864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7380360" y="505476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各图中，哪两条线段互相垂直？照样子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511280" y="47419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1481040" y="2502000"/>
            <a:ext cx="2154240" cy="136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4513320" y="2209680"/>
            <a:ext cx="22050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要求写字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正体英文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有互相垂直关系的字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4154400" y="282744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1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7"/>
          <p:cNvSpPr/>
          <p:nvPr/>
        </p:nvSpPr>
        <p:spPr>
          <a:xfrm>
            <a:off x="1176480" y="472428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直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相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，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垂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2736720" y="2444760"/>
            <a:ext cx="2347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等，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垂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568600" y="515952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射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相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241800" y="2344680"/>
            <a:ext cx="26604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6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44:51Z</dcterms:modified>
  <cp:revision>3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